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50920" y="1412640"/>
            <a:ext cx="4752720" cy="36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455A-9255-40F5-9CA9-DCA4BF719AB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C487-D57C-4C13-969B-625BD188347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4926-8E48-48BC-81F3-B9EB31795D2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5361-F7FB-430B-9230-6A9057BA3AF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C9FB-540E-4D03-966D-7249B801572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AD2C-0201-46AE-B724-65786D24CDE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358C-D683-45C0-8B94-3EBECD05F37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AB4F-C980-46D5-950E-2DA64B473F9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A0C8-B4AA-48CB-AF4D-7A61D4450F0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0EED-F678-433C-8855-D56390F7BEA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6CB6-078F-4A3C-83B7-1F232FC11B2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3635-2C34-463A-A356-9C58E760A82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FC74-26C8-4522-9AEF-029C97578B1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42C6-9CBE-4679-8F09-BAA16C862CC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8E2-0184-4553-8A29-307AA885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36E-CC08-45E9-BB7C-2A71003F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8E3-15AB-4428-A71C-7FEFE371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A53-FD8E-41A1-9B50-B8B757A0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09EC-5629-4FA8-BE03-082D7B6D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685A-0401-4084-9F89-C74440B2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5E0C-6266-4C69-8B09-9813F867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B7BC-2C26-4870-9C00-BB00DD40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B378-9F22-4407-9CEC-034EA9BC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AF7E-FD96-4437-BEE1-9FE25200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87A8-7BD3-4F23-93EF-DE746C2D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947-12B8-4612-8906-C1F1C505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3D7C-CBC0-4EA0-9957-F13CBE20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0F40-E4C3-430E-8039-8ED1FC12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E679-7AB0-46FB-A626-50D281C2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8565-0202-4633-8729-BD71DB08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9CA3-C30F-4433-B44B-0E00AE68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C3A-4398-4E6B-B40C-731DF675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1F2-D9B3-4B00-9AD1-7377CAAE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541-FBC5-4A7C-BDF9-451F895D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FD9-1AC2-4CD5-A5CE-A992EA87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BF4-052D-461F-8607-B06E57A1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4DA-960E-495B-844A-F8C56134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8D4-B0FA-4880-AF99-E3E43FAE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07BE-088E-4AF5-AC8C-125D0CE1E29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9C0D-D461-4F3C-BADA-C8AC357E7858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rdenman@thetourismcompany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Use of Economic Incen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Recommendations for pursuing economic instruments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Understand the issues and the priorities for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onsider whether economic incentives are appropriate instruments to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Look at the existing provision of subsidies and other instruments and their effect on sustainability in the tourism sector, with a view to amend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larify policies over pricing and charging for the use of resources and management of waste in the tourism sector and consider any changes in their 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Ensure that any existing and future sustainability incentives are clearly identified and promoted to tourism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view policies and practice for charging for admission to protected areas and other designated sites and the use of resulting reven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Recommendations for pursuing economic instruments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3960" y="90792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view policies and practice for the granting of rights and concessions for the pursuit of tourism activ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onsider how certification schemes or other identification processes could be used more effectively in the application and impact of economic incen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late economic incentives to the promotion of Corporate Social Respon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view and seek to strengthen the impact of actions to promote and support alternative livelihoods based on tour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Focus marketing on tourism products and activities that meet sustainability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ommunicate the economic advantages of adopting a sustainable approach to tour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QUESTION FOR DISCUSSION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y some good and practical ways in which economic incentives could be effectively used to improve the sustainability of coastal tour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chard Den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enman@thetourismcompany.c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Basis of this presentation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aper 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The role of economic incentives in the governance and management of sustainable tourism in coast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KS T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fluencing Coastal Tourism Development and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The use of economic incentives in sustainable development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garded as a key tool since Earth Summit, Rio in 199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rnalise costs ‘Polluter Pays’ princi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cus on incentives for biodiversity con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ush to phase out harmful incen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derstand economic value –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e Economics of Ecosystems and Biodiversity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G8+5, 200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k to livelihoods and poverty re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ke conservation economically attra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The use of economic incentives in sustainable development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ypes of economic incen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xes and subsidies (including reforming exis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dable perm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icing and char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trance / user f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rket creation – e.g. based on labe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nds and deposit sc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edit – including micro-cred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ensation payments – e.g. buyo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servation agreements – including payment for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pporting alternative livelih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ession schemes and lease agreement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The use of economic incentives in sustainable development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ome key points in the use of economic incentiv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capacity to implement incentives will v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conomic incentives can often work well with oth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entives should be simple and focu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equate funding and commitment i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gibility should be clearly def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to build acceptance from those impli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ltiple benefits is revenue is also rai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nsitive to the level at which taxes, charges etc. are 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ircumstances may change, requiring regular re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Use of economic incentives in tourism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4392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ecial relationship between tourism and the environment as an economic sector that gains income from biodiversity and clean environ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xes and charges on businesses and tour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change behavi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 a source of inc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nts, loans, credit – as direct support or le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nting conc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with other instruments e.g. cer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2" descr="making tour more sus"/>
          <p:cNvPicPr/>
          <p:nvPr/>
        </p:nvPicPr>
        <p:blipFill>
          <a:blip r:embed="rId1"/>
          <a:stretch/>
        </p:blipFill>
        <p:spPr>
          <a:xfrm>
            <a:off x="5518080" y="1271520"/>
            <a:ext cx="30956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Current use in COAST countri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Promotion Agencies – assist development , but do not promote sustainability (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x relief widely applied to tourism investment – but not linked to sus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provision of grants and credit for sustainable tourism – especially linked to international initiatives  (e.g. ST-E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tting of taxes and charges on energy, water, waste management, sewerage etc. – not tourism specific (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of admission charges, with some revenue used lo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of concessions and granting of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arious projects to promote alternative livelih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itiatives to identify good practice and create a market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motion of some community-based and sustainable tourism initi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0" t="15890" r="2008" b="34760"/>
          <a:stretch/>
        </p:blipFill>
        <p:spPr>
          <a:xfrm>
            <a:off x="1042920" y="907920"/>
            <a:ext cx="7056360" cy="2233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2"/>
          <a:srcRect l="24537" t="42687" r="28301" b="22890"/>
          <a:stretch/>
        </p:blipFill>
        <p:spPr>
          <a:xfrm>
            <a:off x="1763640" y="3573360"/>
            <a:ext cx="5688000" cy="273708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684360" y="3429000"/>
            <a:ext cx="784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6064" t="10277" r="8052" b="7534"/>
          <a:stretch/>
        </p:blipFill>
        <p:spPr>
          <a:xfrm>
            <a:off x="684360" y="189000"/>
            <a:ext cx="8135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Richard Denman</cp:lastModifiedBy>
  <dcterms:modified xsi:type="dcterms:W3CDTF">2013-10-19T18:14:41Z</dcterms:modified>
  <cp:revision>44</cp:revision>
  <dc:subject/>
  <dc:title>PowerPoint Presentation</dc:title>
</cp:coreProperties>
</file>